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ABE70-EB8C-457B-BACF-1A40F30FD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520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29DFA-4326-4049-9731-E463A1416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1EB1F-C6BA-484B-B0E9-50379D22B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177F6-A0F2-4D38-9547-72E11BFAC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77F1D-57DE-4B3B-BAEE-519CFD16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5F126-3246-4A16-828D-1A41CCCF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AE56D-EEDF-4C23-91DC-07DC6AFE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F8B0B-FF20-4A52-83D0-F60D70A5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53666-1FD8-4BE7-A85D-27781534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3C24B-8F42-403F-970D-4F44BF10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F3D5E-7276-4616-B1F2-26C8B7B4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B4249-8B12-42B1-B80B-E5BCDBB19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295C8-EBC0-4409-BD81-473788C1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53E8E-D547-4897-A234-4679EFB4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9520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D6EAE-162A-44CC-BCE6-7241CCEF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E51D2-35BE-44EA-943B-C63DA53E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9520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06073-DF87-4C08-9C3E-83C6617D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67B3-3FC8-4358-9BC5-5418CF597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5A5EF-889E-4BCD-8306-6359E8F60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291D6-9FD8-437D-9EBA-A366D0BDA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0749F-A9B2-4B24-B5F1-2F551511A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64002-49A9-4E22-BE73-B10ECCA04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520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7F55A-C67A-4728-B7D6-C0214ACFF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520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995EA-4E34-434A-96D9-9D1379957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4000" y="34920"/>
            <a:ext cx="9037440" cy="6773760"/>
          </a:xfrm>
          <a:custGeom>
            <a:avLst/>
            <a:gdLst/>
            <a:ahLst/>
            <a:rect l="l" t="t" r="r" b="b"/>
            <a:pathLst>
              <a:path w="5693" h="4267">
                <a:moveTo>
                  <a:pt x="2297" y="55"/>
                </a:moveTo>
                <a:cubicBezTo>
                  <a:pt x="2351" y="47"/>
                  <a:pt x="2421" y="72"/>
                  <a:pt x="2505" y="116"/>
                </a:cubicBezTo>
                <a:cubicBezTo>
                  <a:pt x="2588" y="159"/>
                  <a:pt x="2709" y="313"/>
                  <a:pt x="2798" y="314"/>
                </a:cubicBezTo>
                <a:cubicBezTo>
                  <a:pt x="2886" y="314"/>
                  <a:pt x="2974" y="153"/>
                  <a:pt x="3038" y="122"/>
                </a:cubicBezTo>
                <a:cubicBezTo>
                  <a:pt x="3101" y="90"/>
                  <a:pt x="3150" y="106"/>
                  <a:pt x="3182" y="122"/>
                </a:cubicBezTo>
                <a:cubicBezTo>
                  <a:pt x="3214" y="138"/>
                  <a:pt x="3222" y="178"/>
                  <a:pt x="3230" y="218"/>
                </a:cubicBezTo>
                <a:cubicBezTo>
                  <a:pt x="3237" y="257"/>
                  <a:pt x="3214" y="330"/>
                  <a:pt x="3230" y="362"/>
                </a:cubicBezTo>
                <a:cubicBezTo>
                  <a:pt x="3246" y="394"/>
                  <a:pt x="3294" y="410"/>
                  <a:pt x="3326" y="410"/>
                </a:cubicBezTo>
                <a:cubicBezTo>
                  <a:pt x="3358" y="410"/>
                  <a:pt x="3390" y="402"/>
                  <a:pt x="3422" y="362"/>
                </a:cubicBezTo>
                <a:cubicBezTo>
                  <a:pt x="3454" y="322"/>
                  <a:pt x="3478" y="225"/>
                  <a:pt x="3518" y="170"/>
                </a:cubicBezTo>
                <a:cubicBezTo>
                  <a:pt x="3557" y="114"/>
                  <a:pt x="3593" y="51"/>
                  <a:pt x="3662" y="26"/>
                </a:cubicBezTo>
                <a:cubicBezTo>
                  <a:pt x="3730" y="0"/>
                  <a:pt x="3859" y="2"/>
                  <a:pt x="3928" y="16"/>
                </a:cubicBezTo>
                <a:cubicBezTo>
                  <a:pt x="3996" y="29"/>
                  <a:pt x="4038" y="51"/>
                  <a:pt x="4074" y="109"/>
                </a:cubicBezTo>
                <a:cubicBezTo>
                  <a:pt x="4109" y="166"/>
                  <a:pt x="4102" y="301"/>
                  <a:pt x="4142" y="362"/>
                </a:cubicBezTo>
                <a:cubicBezTo>
                  <a:pt x="4181" y="422"/>
                  <a:pt x="4245" y="454"/>
                  <a:pt x="4312" y="470"/>
                </a:cubicBezTo>
                <a:cubicBezTo>
                  <a:pt x="4378" y="485"/>
                  <a:pt x="4483" y="480"/>
                  <a:pt x="4543" y="455"/>
                </a:cubicBezTo>
                <a:cubicBezTo>
                  <a:pt x="4602" y="429"/>
                  <a:pt x="4624" y="369"/>
                  <a:pt x="4670" y="314"/>
                </a:cubicBezTo>
                <a:cubicBezTo>
                  <a:pt x="4715" y="258"/>
                  <a:pt x="4749" y="170"/>
                  <a:pt x="4814" y="122"/>
                </a:cubicBezTo>
                <a:cubicBezTo>
                  <a:pt x="4878" y="73"/>
                  <a:pt x="4966" y="42"/>
                  <a:pt x="5054" y="26"/>
                </a:cubicBezTo>
                <a:cubicBezTo>
                  <a:pt x="5142" y="10"/>
                  <a:pt x="5254" y="2"/>
                  <a:pt x="5342" y="26"/>
                </a:cubicBezTo>
                <a:cubicBezTo>
                  <a:pt x="5430" y="50"/>
                  <a:pt x="5526" y="106"/>
                  <a:pt x="5582" y="170"/>
                </a:cubicBezTo>
                <a:cubicBezTo>
                  <a:pt x="5638" y="234"/>
                  <a:pt x="5662" y="346"/>
                  <a:pt x="5678" y="410"/>
                </a:cubicBezTo>
                <a:cubicBezTo>
                  <a:pt x="5693" y="473"/>
                  <a:pt x="5687" y="497"/>
                  <a:pt x="5678" y="554"/>
                </a:cubicBezTo>
                <a:cubicBezTo>
                  <a:pt x="5668" y="610"/>
                  <a:pt x="5644" y="691"/>
                  <a:pt x="5620" y="747"/>
                </a:cubicBezTo>
                <a:cubicBezTo>
                  <a:pt x="5596" y="803"/>
                  <a:pt x="5563" y="838"/>
                  <a:pt x="5534" y="890"/>
                </a:cubicBezTo>
                <a:cubicBezTo>
                  <a:pt x="5504" y="941"/>
                  <a:pt x="5472" y="987"/>
                  <a:pt x="5443" y="1055"/>
                </a:cubicBezTo>
                <a:cubicBezTo>
                  <a:pt x="5413" y="1122"/>
                  <a:pt x="5383" y="1226"/>
                  <a:pt x="5359" y="1293"/>
                </a:cubicBezTo>
                <a:cubicBezTo>
                  <a:pt x="5334" y="1359"/>
                  <a:pt x="5300" y="1403"/>
                  <a:pt x="5297" y="1455"/>
                </a:cubicBezTo>
                <a:cubicBezTo>
                  <a:pt x="5293" y="1506"/>
                  <a:pt x="5320" y="1559"/>
                  <a:pt x="5336" y="1601"/>
                </a:cubicBezTo>
                <a:cubicBezTo>
                  <a:pt x="5351" y="1642"/>
                  <a:pt x="5348" y="1656"/>
                  <a:pt x="5390" y="1706"/>
                </a:cubicBezTo>
                <a:cubicBezTo>
                  <a:pt x="5431" y="1755"/>
                  <a:pt x="5542" y="1842"/>
                  <a:pt x="5582" y="1898"/>
                </a:cubicBezTo>
                <a:cubicBezTo>
                  <a:pt x="5621" y="1953"/>
                  <a:pt x="5630" y="1978"/>
                  <a:pt x="5630" y="2042"/>
                </a:cubicBezTo>
                <a:cubicBezTo>
                  <a:pt x="5630" y="2106"/>
                  <a:pt x="5621" y="2218"/>
                  <a:pt x="5582" y="2282"/>
                </a:cubicBezTo>
                <a:cubicBezTo>
                  <a:pt x="5542" y="2345"/>
                  <a:pt x="5453" y="2394"/>
                  <a:pt x="5390" y="2426"/>
                </a:cubicBezTo>
                <a:cubicBezTo>
                  <a:pt x="5326" y="2457"/>
                  <a:pt x="5237" y="2450"/>
                  <a:pt x="5198" y="2474"/>
                </a:cubicBezTo>
                <a:cubicBezTo>
                  <a:pt x="5158" y="2497"/>
                  <a:pt x="5134" y="2538"/>
                  <a:pt x="5150" y="2570"/>
                </a:cubicBezTo>
                <a:cubicBezTo>
                  <a:pt x="5166" y="2602"/>
                  <a:pt x="5246" y="2626"/>
                  <a:pt x="5294" y="2666"/>
                </a:cubicBezTo>
                <a:cubicBezTo>
                  <a:pt x="5342" y="2706"/>
                  <a:pt x="5422" y="2762"/>
                  <a:pt x="5438" y="2810"/>
                </a:cubicBezTo>
                <a:cubicBezTo>
                  <a:pt x="5453" y="2857"/>
                  <a:pt x="5406" y="2922"/>
                  <a:pt x="5390" y="2954"/>
                </a:cubicBezTo>
                <a:cubicBezTo>
                  <a:pt x="5374" y="2986"/>
                  <a:pt x="5349" y="2978"/>
                  <a:pt x="5342" y="3002"/>
                </a:cubicBezTo>
                <a:cubicBezTo>
                  <a:pt x="5334" y="3025"/>
                  <a:pt x="5326" y="3058"/>
                  <a:pt x="5342" y="3098"/>
                </a:cubicBezTo>
                <a:cubicBezTo>
                  <a:pt x="5358" y="3138"/>
                  <a:pt x="5398" y="3186"/>
                  <a:pt x="5438" y="3242"/>
                </a:cubicBezTo>
                <a:cubicBezTo>
                  <a:pt x="5477" y="3297"/>
                  <a:pt x="5542" y="3370"/>
                  <a:pt x="5582" y="3434"/>
                </a:cubicBezTo>
                <a:cubicBezTo>
                  <a:pt x="5621" y="3497"/>
                  <a:pt x="5670" y="3546"/>
                  <a:pt x="5678" y="3626"/>
                </a:cubicBezTo>
                <a:cubicBezTo>
                  <a:pt x="5686" y="3706"/>
                  <a:pt x="5670" y="3834"/>
                  <a:pt x="5630" y="3914"/>
                </a:cubicBezTo>
                <a:cubicBezTo>
                  <a:pt x="5590" y="3994"/>
                  <a:pt x="5502" y="4057"/>
                  <a:pt x="5438" y="4106"/>
                </a:cubicBezTo>
                <a:cubicBezTo>
                  <a:pt x="5373" y="4154"/>
                  <a:pt x="5317" y="4178"/>
                  <a:pt x="5246" y="4202"/>
                </a:cubicBezTo>
                <a:cubicBezTo>
                  <a:pt x="5174" y="4225"/>
                  <a:pt x="5086" y="4242"/>
                  <a:pt x="5006" y="4250"/>
                </a:cubicBezTo>
                <a:cubicBezTo>
                  <a:pt x="4926" y="4258"/>
                  <a:pt x="4860" y="4256"/>
                  <a:pt x="4766" y="4250"/>
                </a:cubicBezTo>
                <a:cubicBezTo>
                  <a:pt x="4671" y="4243"/>
                  <a:pt x="4528" y="4230"/>
                  <a:pt x="4436" y="4209"/>
                </a:cubicBezTo>
                <a:cubicBezTo>
                  <a:pt x="4343" y="4188"/>
                  <a:pt x="4270" y="4170"/>
                  <a:pt x="4212" y="4124"/>
                </a:cubicBezTo>
                <a:cubicBezTo>
                  <a:pt x="4153" y="4077"/>
                  <a:pt x="4121" y="4003"/>
                  <a:pt x="4082" y="3932"/>
                </a:cubicBezTo>
                <a:cubicBezTo>
                  <a:pt x="4042" y="3860"/>
                  <a:pt x="4015" y="3700"/>
                  <a:pt x="3974" y="3693"/>
                </a:cubicBezTo>
                <a:cubicBezTo>
                  <a:pt x="3932" y="3685"/>
                  <a:pt x="3896" y="3827"/>
                  <a:pt x="3835" y="3886"/>
                </a:cubicBezTo>
                <a:cubicBezTo>
                  <a:pt x="3773" y="3944"/>
                  <a:pt x="3689" y="3995"/>
                  <a:pt x="3605" y="4047"/>
                </a:cubicBezTo>
                <a:cubicBezTo>
                  <a:pt x="3520" y="4098"/>
                  <a:pt x="3406" y="4167"/>
                  <a:pt x="3328" y="4193"/>
                </a:cubicBezTo>
                <a:cubicBezTo>
                  <a:pt x="3249" y="4218"/>
                  <a:pt x="3206" y="4216"/>
                  <a:pt x="3134" y="4202"/>
                </a:cubicBezTo>
                <a:cubicBezTo>
                  <a:pt x="3061" y="4187"/>
                  <a:pt x="2966" y="4138"/>
                  <a:pt x="2894" y="4106"/>
                </a:cubicBezTo>
                <a:cubicBezTo>
                  <a:pt x="2821" y="4073"/>
                  <a:pt x="2757" y="4029"/>
                  <a:pt x="2702" y="4010"/>
                </a:cubicBezTo>
                <a:cubicBezTo>
                  <a:pt x="2646" y="3990"/>
                  <a:pt x="2610" y="3973"/>
                  <a:pt x="2558" y="3986"/>
                </a:cubicBezTo>
                <a:cubicBezTo>
                  <a:pt x="2505" y="3998"/>
                  <a:pt x="2463" y="4066"/>
                  <a:pt x="2389" y="4086"/>
                </a:cubicBezTo>
                <a:cubicBezTo>
                  <a:pt x="2314" y="4105"/>
                  <a:pt x="2187" y="4121"/>
                  <a:pt x="2112" y="4101"/>
                </a:cubicBezTo>
                <a:cubicBezTo>
                  <a:pt x="2036" y="4080"/>
                  <a:pt x="2008" y="3990"/>
                  <a:pt x="1934" y="3962"/>
                </a:cubicBezTo>
                <a:cubicBezTo>
                  <a:pt x="1859" y="3933"/>
                  <a:pt x="1738" y="3924"/>
                  <a:pt x="1666" y="3932"/>
                </a:cubicBezTo>
                <a:cubicBezTo>
                  <a:pt x="1594" y="3940"/>
                  <a:pt x="1553" y="3973"/>
                  <a:pt x="1502" y="4010"/>
                </a:cubicBezTo>
                <a:cubicBezTo>
                  <a:pt x="1450" y="4046"/>
                  <a:pt x="1413" y="4114"/>
                  <a:pt x="1358" y="4154"/>
                </a:cubicBezTo>
                <a:cubicBezTo>
                  <a:pt x="1302" y="4193"/>
                  <a:pt x="1238" y="4234"/>
                  <a:pt x="1166" y="4250"/>
                </a:cubicBezTo>
                <a:cubicBezTo>
                  <a:pt x="1094" y="4266"/>
                  <a:pt x="1015" y="4267"/>
                  <a:pt x="926" y="4250"/>
                </a:cubicBezTo>
                <a:cubicBezTo>
                  <a:pt x="836" y="4232"/>
                  <a:pt x="707" y="4177"/>
                  <a:pt x="628" y="4147"/>
                </a:cubicBezTo>
                <a:cubicBezTo>
                  <a:pt x="548" y="4116"/>
                  <a:pt x="508" y="4113"/>
                  <a:pt x="451" y="4070"/>
                </a:cubicBezTo>
                <a:cubicBezTo>
                  <a:pt x="393" y="4026"/>
                  <a:pt x="313" y="3975"/>
                  <a:pt x="281" y="3886"/>
                </a:cubicBezTo>
                <a:cubicBezTo>
                  <a:pt x="248" y="3796"/>
                  <a:pt x="282" y="3605"/>
                  <a:pt x="254" y="3530"/>
                </a:cubicBezTo>
                <a:cubicBezTo>
                  <a:pt x="225" y="3454"/>
                  <a:pt x="150" y="3482"/>
                  <a:pt x="110" y="3434"/>
                </a:cubicBezTo>
                <a:cubicBezTo>
                  <a:pt x="70" y="3386"/>
                  <a:pt x="25" y="3306"/>
                  <a:pt x="14" y="3242"/>
                </a:cubicBezTo>
                <a:cubicBezTo>
                  <a:pt x="2" y="3177"/>
                  <a:pt x="17" y="3111"/>
                  <a:pt x="43" y="3047"/>
                </a:cubicBezTo>
                <a:cubicBezTo>
                  <a:pt x="68" y="2982"/>
                  <a:pt x="106" y="2910"/>
                  <a:pt x="166" y="2855"/>
                </a:cubicBezTo>
                <a:cubicBezTo>
                  <a:pt x="225" y="2799"/>
                  <a:pt x="335" y="2753"/>
                  <a:pt x="398" y="2714"/>
                </a:cubicBezTo>
                <a:cubicBezTo>
                  <a:pt x="460" y="2674"/>
                  <a:pt x="510" y="2658"/>
                  <a:pt x="542" y="2618"/>
                </a:cubicBezTo>
                <a:cubicBezTo>
                  <a:pt x="574" y="2578"/>
                  <a:pt x="610" y="2528"/>
                  <a:pt x="590" y="2474"/>
                </a:cubicBezTo>
                <a:cubicBezTo>
                  <a:pt x="569" y="2419"/>
                  <a:pt x="492" y="2333"/>
                  <a:pt x="420" y="2293"/>
                </a:cubicBezTo>
                <a:cubicBezTo>
                  <a:pt x="347" y="2252"/>
                  <a:pt x="223" y="2256"/>
                  <a:pt x="158" y="2234"/>
                </a:cubicBezTo>
                <a:cubicBezTo>
                  <a:pt x="92" y="2211"/>
                  <a:pt x="51" y="2194"/>
                  <a:pt x="28" y="2155"/>
                </a:cubicBezTo>
                <a:cubicBezTo>
                  <a:pt x="4" y="2115"/>
                  <a:pt x="0" y="2044"/>
                  <a:pt x="14" y="1994"/>
                </a:cubicBezTo>
                <a:cubicBezTo>
                  <a:pt x="27" y="1943"/>
                  <a:pt x="62" y="1898"/>
                  <a:pt x="110" y="1850"/>
                </a:cubicBezTo>
                <a:cubicBezTo>
                  <a:pt x="158" y="1802"/>
                  <a:pt x="269" y="1754"/>
                  <a:pt x="302" y="1706"/>
                </a:cubicBezTo>
                <a:cubicBezTo>
                  <a:pt x="334" y="1657"/>
                  <a:pt x="301" y="1600"/>
                  <a:pt x="302" y="1562"/>
                </a:cubicBezTo>
                <a:cubicBezTo>
                  <a:pt x="302" y="1524"/>
                  <a:pt x="287" y="1512"/>
                  <a:pt x="304" y="1478"/>
                </a:cubicBezTo>
                <a:cubicBezTo>
                  <a:pt x="320" y="1443"/>
                  <a:pt x="396" y="1396"/>
                  <a:pt x="404" y="1355"/>
                </a:cubicBezTo>
                <a:cubicBezTo>
                  <a:pt x="411" y="1314"/>
                  <a:pt x="384" y="1277"/>
                  <a:pt x="351" y="1232"/>
                </a:cubicBezTo>
                <a:cubicBezTo>
                  <a:pt x="318" y="1186"/>
                  <a:pt x="254" y="1134"/>
                  <a:pt x="206" y="1082"/>
                </a:cubicBezTo>
                <a:cubicBezTo>
                  <a:pt x="157" y="1029"/>
                  <a:pt x="89" y="979"/>
                  <a:pt x="58" y="916"/>
                </a:cubicBezTo>
                <a:cubicBezTo>
                  <a:pt x="26" y="852"/>
                  <a:pt x="13" y="774"/>
                  <a:pt x="14" y="698"/>
                </a:cubicBezTo>
                <a:cubicBezTo>
                  <a:pt x="14" y="621"/>
                  <a:pt x="38" y="529"/>
                  <a:pt x="62" y="458"/>
                </a:cubicBezTo>
                <a:cubicBezTo>
                  <a:pt x="85" y="386"/>
                  <a:pt x="118" y="321"/>
                  <a:pt x="158" y="266"/>
                </a:cubicBezTo>
                <a:cubicBezTo>
                  <a:pt x="197" y="210"/>
                  <a:pt x="237" y="155"/>
                  <a:pt x="302" y="122"/>
                </a:cubicBezTo>
                <a:cubicBezTo>
                  <a:pt x="366" y="88"/>
                  <a:pt x="455" y="71"/>
                  <a:pt x="543" y="63"/>
                </a:cubicBezTo>
                <a:cubicBezTo>
                  <a:pt x="631" y="55"/>
                  <a:pt x="750" y="48"/>
                  <a:pt x="830" y="74"/>
                </a:cubicBezTo>
                <a:cubicBezTo>
                  <a:pt x="909" y="99"/>
                  <a:pt x="974" y="162"/>
                  <a:pt x="1022" y="218"/>
                </a:cubicBezTo>
                <a:cubicBezTo>
                  <a:pt x="1070" y="274"/>
                  <a:pt x="1078" y="374"/>
                  <a:pt x="1118" y="410"/>
                </a:cubicBezTo>
                <a:cubicBezTo>
                  <a:pt x="1157" y="445"/>
                  <a:pt x="1211" y="443"/>
                  <a:pt x="1258" y="432"/>
                </a:cubicBezTo>
                <a:cubicBezTo>
                  <a:pt x="1304" y="420"/>
                  <a:pt x="1350" y="376"/>
                  <a:pt x="1397" y="340"/>
                </a:cubicBezTo>
                <a:cubicBezTo>
                  <a:pt x="1443" y="304"/>
                  <a:pt x="1479" y="223"/>
                  <a:pt x="1535" y="216"/>
                </a:cubicBezTo>
                <a:cubicBezTo>
                  <a:pt x="1590" y="208"/>
                  <a:pt x="1672" y="281"/>
                  <a:pt x="1728" y="293"/>
                </a:cubicBezTo>
                <a:cubicBezTo>
                  <a:pt x="1783" y="304"/>
                  <a:pt x="1813" y="314"/>
                  <a:pt x="1866" y="286"/>
                </a:cubicBezTo>
                <a:cubicBezTo>
                  <a:pt x="1918" y="257"/>
                  <a:pt x="1971" y="162"/>
                  <a:pt x="2043" y="124"/>
                </a:cubicBezTo>
                <a:cubicBezTo>
                  <a:pt x="2114" y="85"/>
                  <a:pt x="2243" y="63"/>
                  <a:pt x="2297" y="55"/>
                </a:cubicBezTo>
                <a:close/>
              </a:path>
            </a:pathLst>
          </a:custGeom>
          <a:solidFill>
            <a:srgbClr val="ffea18"/>
          </a:solidFill>
          <a:ln w="19080">
            <a:solidFill>
              <a:srgbClr val="3d38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5791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C276-5794-420B-B593-182999CE7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2800" y="579132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4000" y="34920"/>
            <a:ext cx="9037440" cy="6773760"/>
          </a:xfrm>
          <a:custGeom>
            <a:avLst/>
            <a:gdLst/>
            <a:ahLst/>
            <a:rect l="l" t="t" r="r" b="b"/>
            <a:pathLst>
              <a:path w="5693" h="4267">
                <a:moveTo>
                  <a:pt x="2297" y="55"/>
                </a:moveTo>
                <a:cubicBezTo>
                  <a:pt x="2351" y="47"/>
                  <a:pt x="2421" y="72"/>
                  <a:pt x="2505" y="116"/>
                </a:cubicBezTo>
                <a:cubicBezTo>
                  <a:pt x="2588" y="159"/>
                  <a:pt x="2709" y="313"/>
                  <a:pt x="2798" y="314"/>
                </a:cubicBezTo>
                <a:cubicBezTo>
                  <a:pt x="2886" y="314"/>
                  <a:pt x="2974" y="153"/>
                  <a:pt x="3038" y="122"/>
                </a:cubicBezTo>
                <a:cubicBezTo>
                  <a:pt x="3101" y="90"/>
                  <a:pt x="3150" y="106"/>
                  <a:pt x="3182" y="122"/>
                </a:cubicBezTo>
                <a:cubicBezTo>
                  <a:pt x="3214" y="138"/>
                  <a:pt x="3222" y="178"/>
                  <a:pt x="3230" y="218"/>
                </a:cubicBezTo>
                <a:cubicBezTo>
                  <a:pt x="3237" y="257"/>
                  <a:pt x="3214" y="330"/>
                  <a:pt x="3230" y="362"/>
                </a:cubicBezTo>
                <a:cubicBezTo>
                  <a:pt x="3246" y="394"/>
                  <a:pt x="3294" y="410"/>
                  <a:pt x="3326" y="410"/>
                </a:cubicBezTo>
                <a:cubicBezTo>
                  <a:pt x="3358" y="410"/>
                  <a:pt x="3390" y="402"/>
                  <a:pt x="3422" y="362"/>
                </a:cubicBezTo>
                <a:cubicBezTo>
                  <a:pt x="3454" y="322"/>
                  <a:pt x="3478" y="225"/>
                  <a:pt x="3518" y="170"/>
                </a:cubicBezTo>
                <a:cubicBezTo>
                  <a:pt x="3557" y="114"/>
                  <a:pt x="3593" y="51"/>
                  <a:pt x="3662" y="26"/>
                </a:cubicBezTo>
                <a:cubicBezTo>
                  <a:pt x="3730" y="0"/>
                  <a:pt x="3859" y="2"/>
                  <a:pt x="3928" y="16"/>
                </a:cubicBezTo>
                <a:cubicBezTo>
                  <a:pt x="3996" y="29"/>
                  <a:pt x="4038" y="51"/>
                  <a:pt x="4074" y="109"/>
                </a:cubicBezTo>
                <a:cubicBezTo>
                  <a:pt x="4109" y="166"/>
                  <a:pt x="4102" y="301"/>
                  <a:pt x="4142" y="362"/>
                </a:cubicBezTo>
                <a:cubicBezTo>
                  <a:pt x="4181" y="422"/>
                  <a:pt x="4245" y="454"/>
                  <a:pt x="4312" y="470"/>
                </a:cubicBezTo>
                <a:cubicBezTo>
                  <a:pt x="4378" y="485"/>
                  <a:pt x="4483" y="480"/>
                  <a:pt x="4543" y="455"/>
                </a:cubicBezTo>
                <a:cubicBezTo>
                  <a:pt x="4602" y="429"/>
                  <a:pt x="4624" y="369"/>
                  <a:pt x="4670" y="314"/>
                </a:cubicBezTo>
                <a:cubicBezTo>
                  <a:pt x="4715" y="258"/>
                  <a:pt x="4749" y="170"/>
                  <a:pt x="4814" y="122"/>
                </a:cubicBezTo>
                <a:cubicBezTo>
                  <a:pt x="4878" y="73"/>
                  <a:pt x="4966" y="42"/>
                  <a:pt x="5054" y="26"/>
                </a:cubicBezTo>
                <a:cubicBezTo>
                  <a:pt x="5142" y="10"/>
                  <a:pt x="5254" y="2"/>
                  <a:pt x="5342" y="26"/>
                </a:cubicBezTo>
                <a:cubicBezTo>
                  <a:pt x="5430" y="50"/>
                  <a:pt x="5526" y="106"/>
                  <a:pt x="5582" y="170"/>
                </a:cubicBezTo>
                <a:cubicBezTo>
                  <a:pt x="5638" y="234"/>
                  <a:pt x="5662" y="346"/>
                  <a:pt x="5678" y="410"/>
                </a:cubicBezTo>
                <a:cubicBezTo>
                  <a:pt x="5693" y="473"/>
                  <a:pt x="5687" y="497"/>
                  <a:pt x="5678" y="554"/>
                </a:cubicBezTo>
                <a:cubicBezTo>
                  <a:pt x="5668" y="610"/>
                  <a:pt x="5644" y="691"/>
                  <a:pt x="5620" y="747"/>
                </a:cubicBezTo>
                <a:cubicBezTo>
                  <a:pt x="5596" y="803"/>
                  <a:pt x="5563" y="838"/>
                  <a:pt x="5534" y="890"/>
                </a:cubicBezTo>
                <a:cubicBezTo>
                  <a:pt x="5504" y="941"/>
                  <a:pt x="5472" y="987"/>
                  <a:pt x="5443" y="1055"/>
                </a:cubicBezTo>
                <a:cubicBezTo>
                  <a:pt x="5413" y="1122"/>
                  <a:pt x="5383" y="1226"/>
                  <a:pt x="5359" y="1293"/>
                </a:cubicBezTo>
                <a:cubicBezTo>
                  <a:pt x="5334" y="1359"/>
                  <a:pt x="5300" y="1403"/>
                  <a:pt x="5297" y="1455"/>
                </a:cubicBezTo>
                <a:cubicBezTo>
                  <a:pt x="5293" y="1506"/>
                  <a:pt x="5320" y="1559"/>
                  <a:pt x="5336" y="1601"/>
                </a:cubicBezTo>
                <a:cubicBezTo>
                  <a:pt x="5351" y="1642"/>
                  <a:pt x="5348" y="1656"/>
                  <a:pt x="5390" y="1706"/>
                </a:cubicBezTo>
                <a:cubicBezTo>
                  <a:pt x="5431" y="1755"/>
                  <a:pt x="5542" y="1842"/>
                  <a:pt x="5582" y="1898"/>
                </a:cubicBezTo>
                <a:cubicBezTo>
                  <a:pt x="5621" y="1953"/>
                  <a:pt x="5630" y="1978"/>
                  <a:pt x="5630" y="2042"/>
                </a:cubicBezTo>
                <a:cubicBezTo>
                  <a:pt x="5630" y="2106"/>
                  <a:pt x="5621" y="2218"/>
                  <a:pt x="5582" y="2282"/>
                </a:cubicBezTo>
                <a:cubicBezTo>
                  <a:pt x="5542" y="2345"/>
                  <a:pt x="5453" y="2394"/>
                  <a:pt x="5390" y="2426"/>
                </a:cubicBezTo>
                <a:cubicBezTo>
                  <a:pt x="5326" y="2457"/>
                  <a:pt x="5237" y="2450"/>
                  <a:pt x="5198" y="2474"/>
                </a:cubicBezTo>
                <a:cubicBezTo>
                  <a:pt x="5158" y="2497"/>
                  <a:pt x="5134" y="2538"/>
                  <a:pt x="5150" y="2570"/>
                </a:cubicBezTo>
                <a:cubicBezTo>
                  <a:pt x="5166" y="2602"/>
                  <a:pt x="5246" y="2626"/>
                  <a:pt x="5294" y="2666"/>
                </a:cubicBezTo>
                <a:cubicBezTo>
                  <a:pt x="5342" y="2706"/>
                  <a:pt x="5422" y="2762"/>
                  <a:pt x="5438" y="2810"/>
                </a:cubicBezTo>
                <a:cubicBezTo>
                  <a:pt x="5453" y="2857"/>
                  <a:pt x="5406" y="2922"/>
                  <a:pt x="5390" y="2954"/>
                </a:cubicBezTo>
                <a:cubicBezTo>
                  <a:pt x="5374" y="2986"/>
                  <a:pt x="5349" y="2978"/>
                  <a:pt x="5342" y="3002"/>
                </a:cubicBezTo>
                <a:cubicBezTo>
                  <a:pt x="5334" y="3025"/>
                  <a:pt x="5326" y="3058"/>
                  <a:pt x="5342" y="3098"/>
                </a:cubicBezTo>
                <a:cubicBezTo>
                  <a:pt x="5358" y="3138"/>
                  <a:pt x="5398" y="3186"/>
                  <a:pt x="5438" y="3242"/>
                </a:cubicBezTo>
                <a:cubicBezTo>
                  <a:pt x="5477" y="3297"/>
                  <a:pt x="5542" y="3370"/>
                  <a:pt x="5582" y="3434"/>
                </a:cubicBezTo>
                <a:cubicBezTo>
                  <a:pt x="5621" y="3497"/>
                  <a:pt x="5670" y="3546"/>
                  <a:pt x="5678" y="3626"/>
                </a:cubicBezTo>
                <a:cubicBezTo>
                  <a:pt x="5686" y="3706"/>
                  <a:pt x="5670" y="3834"/>
                  <a:pt x="5630" y="3914"/>
                </a:cubicBezTo>
                <a:cubicBezTo>
                  <a:pt x="5590" y="3994"/>
                  <a:pt x="5502" y="4057"/>
                  <a:pt x="5438" y="4106"/>
                </a:cubicBezTo>
                <a:cubicBezTo>
                  <a:pt x="5373" y="4154"/>
                  <a:pt x="5317" y="4178"/>
                  <a:pt x="5246" y="4202"/>
                </a:cubicBezTo>
                <a:cubicBezTo>
                  <a:pt x="5174" y="4225"/>
                  <a:pt x="5086" y="4242"/>
                  <a:pt x="5006" y="4250"/>
                </a:cubicBezTo>
                <a:cubicBezTo>
                  <a:pt x="4926" y="4258"/>
                  <a:pt x="4860" y="4256"/>
                  <a:pt x="4766" y="4250"/>
                </a:cubicBezTo>
                <a:cubicBezTo>
                  <a:pt x="4671" y="4243"/>
                  <a:pt x="4528" y="4230"/>
                  <a:pt x="4436" y="4209"/>
                </a:cubicBezTo>
                <a:cubicBezTo>
                  <a:pt x="4343" y="4188"/>
                  <a:pt x="4270" y="4170"/>
                  <a:pt x="4212" y="4124"/>
                </a:cubicBezTo>
                <a:cubicBezTo>
                  <a:pt x="4153" y="4077"/>
                  <a:pt x="4121" y="4003"/>
                  <a:pt x="4082" y="3932"/>
                </a:cubicBezTo>
                <a:cubicBezTo>
                  <a:pt x="4042" y="3860"/>
                  <a:pt x="4015" y="3700"/>
                  <a:pt x="3974" y="3693"/>
                </a:cubicBezTo>
                <a:cubicBezTo>
                  <a:pt x="3932" y="3685"/>
                  <a:pt x="3896" y="3827"/>
                  <a:pt x="3835" y="3886"/>
                </a:cubicBezTo>
                <a:cubicBezTo>
                  <a:pt x="3773" y="3944"/>
                  <a:pt x="3689" y="3995"/>
                  <a:pt x="3605" y="4047"/>
                </a:cubicBezTo>
                <a:cubicBezTo>
                  <a:pt x="3520" y="4098"/>
                  <a:pt x="3406" y="4167"/>
                  <a:pt x="3328" y="4193"/>
                </a:cubicBezTo>
                <a:cubicBezTo>
                  <a:pt x="3249" y="4218"/>
                  <a:pt x="3206" y="4216"/>
                  <a:pt x="3134" y="4202"/>
                </a:cubicBezTo>
                <a:cubicBezTo>
                  <a:pt x="3061" y="4187"/>
                  <a:pt x="2966" y="4138"/>
                  <a:pt x="2894" y="4106"/>
                </a:cubicBezTo>
                <a:cubicBezTo>
                  <a:pt x="2821" y="4073"/>
                  <a:pt x="2757" y="4029"/>
                  <a:pt x="2702" y="4010"/>
                </a:cubicBezTo>
                <a:cubicBezTo>
                  <a:pt x="2646" y="3990"/>
                  <a:pt x="2610" y="3973"/>
                  <a:pt x="2558" y="3986"/>
                </a:cubicBezTo>
                <a:cubicBezTo>
                  <a:pt x="2505" y="3998"/>
                  <a:pt x="2463" y="4066"/>
                  <a:pt x="2389" y="4086"/>
                </a:cubicBezTo>
                <a:cubicBezTo>
                  <a:pt x="2314" y="4105"/>
                  <a:pt x="2187" y="4121"/>
                  <a:pt x="2112" y="4101"/>
                </a:cubicBezTo>
                <a:cubicBezTo>
                  <a:pt x="2036" y="4080"/>
                  <a:pt x="2008" y="3990"/>
                  <a:pt x="1934" y="3962"/>
                </a:cubicBezTo>
                <a:cubicBezTo>
                  <a:pt x="1859" y="3933"/>
                  <a:pt x="1738" y="3924"/>
                  <a:pt x="1666" y="3932"/>
                </a:cubicBezTo>
                <a:cubicBezTo>
                  <a:pt x="1594" y="3940"/>
                  <a:pt x="1553" y="3973"/>
                  <a:pt x="1502" y="4010"/>
                </a:cubicBezTo>
                <a:cubicBezTo>
                  <a:pt x="1450" y="4046"/>
                  <a:pt x="1413" y="4114"/>
                  <a:pt x="1358" y="4154"/>
                </a:cubicBezTo>
                <a:cubicBezTo>
                  <a:pt x="1302" y="4193"/>
                  <a:pt x="1238" y="4234"/>
                  <a:pt x="1166" y="4250"/>
                </a:cubicBezTo>
                <a:cubicBezTo>
                  <a:pt x="1094" y="4266"/>
                  <a:pt x="1015" y="4267"/>
                  <a:pt x="926" y="4250"/>
                </a:cubicBezTo>
                <a:cubicBezTo>
                  <a:pt x="836" y="4232"/>
                  <a:pt x="707" y="4177"/>
                  <a:pt x="628" y="4147"/>
                </a:cubicBezTo>
                <a:cubicBezTo>
                  <a:pt x="548" y="4116"/>
                  <a:pt x="508" y="4113"/>
                  <a:pt x="451" y="4070"/>
                </a:cubicBezTo>
                <a:cubicBezTo>
                  <a:pt x="393" y="4026"/>
                  <a:pt x="313" y="3975"/>
                  <a:pt x="281" y="3886"/>
                </a:cubicBezTo>
                <a:cubicBezTo>
                  <a:pt x="248" y="3796"/>
                  <a:pt x="282" y="3605"/>
                  <a:pt x="254" y="3530"/>
                </a:cubicBezTo>
                <a:cubicBezTo>
                  <a:pt x="225" y="3454"/>
                  <a:pt x="150" y="3482"/>
                  <a:pt x="110" y="3434"/>
                </a:cubicBezTo>
                <a:cubicBezTo>
                  <a:pt x="70" y="3386"/>
                  <a:pt x="25" y="3306"/>
                  <a:pt x="14" y="3242"/>
                </a:cubicBezTo>
                <a:cubicBezTo>
                  <a:pt x="2" y="3177"/>
                  <a:pt x="17" y="3111"/>
                  <a:pt x="43" y="3047"/>
                </a:cubicBezTo>
                <a:cubicBezTo>
                  <a:pt x="68" y="2982"/>
                  <a:pt x="106" y="2910"/>
                  <a:pt x="166" y="2855"/>
                </a:cubicBezTo>
                <a:cubicBezTo>
                  <a:pt x="225" y="2799"/>
                  <a:pt x="335" y="2753"/>
                  <a:pt x="398" y="2714"/>
                </a:cubicBezTo>
                <a:cubicBezTo>
                  <a:pt x="460" y="2674"/>
                  <a:pt x="510" y="2658"/>
                  <a:pt x="542" y="2618"/>
                </a:cubicBezTo>
                <a:cubicBezTo>
                  <a:pt x="574" y="2578"/>
                  <a:pt x="610" y="2528"/>
                  <a:pt x="590" y="2474"/>
                </a:cubicBezTo>
                <a:cubicBezTo>
                  <a:pt x="569" y="2419"/>
                  <a:pt x="492" y="2333"/>
                  <a:pt x="420" y="2293"/>
                </a:cubicBezTo>
                <a:cubicBezTo>
                  <a:pt x="347" y="2252"/>
                  <a:pt x="223" y="2256"/>
                  <a:pt x="158" y="2234"/>
                </a:cubicBezTo>
                <a:cubicBezTo>
                  <a:pt x="92" y="2211"/>
                  <a:pt x="51" y="2194"/>
                  <a:pt x="28" y="2155"/>
                </a:cubicBezTo>
                <a:cubicBezTo>
                  <a:pt x="4" y="2115"/>
                  <a:pt x="0" y="2044"/>
                  <a:pt x="14" y="1994"/>
                </a:cubicBezTo>
                <a:cubicBezTo>
                  <a:pt x="27" y="1943"/>
                  <a:pt x="62" y="1898"/>
                  <a:pt x="110" y="1850"/>
                </a:cubicBezTo>
                <a:cubicBezTo>
                  <a:pt x="158" y="1802"/>
                  <a:pt x="269" y="1754"/>
                  <a:pt x="302" y="1706"/>
                </a:cubicBezTo>
                <a:cubicBezTo>
                  <a:pt x="334" y="1657"/>
                  <a:pt x="301" y="1600"/>
                  <a:pt x="302" y="1562"/>
                </a:cubicBezTo>
                <a:cubicBezTo>
                  <a:pt x="302" y="1524"/>
                  <a:pt x="287" y="1512"/>
                  <a:pt x="304" y="1478"/>
                </a:cubicBezTo>
                <a:cubicBezTo>
                  <a:pt x="320" y="1443"/>
                  <a:pt x="396" y="1396"/>
                  <a:pt x="404" y="1355"/>
                </a:cubicBezTo>
                <a:cubicBezTo>
                  <a:pt x="411" y="1314"/>
                  <a:pt x="384" y="1277"/>
                  <a:pt x="351" y="1232"/>
                </a:cubicBezTo>
                <a:cubicBezTo>
                  <a:pt x="318" y="1186"/>
                  <a:pt x="254" y="1134"/>
                  <a:pt x="206" y="1082"/>
                </a:cubicBezTo>
                <a:cubicBezTo>
                  <a:pt x="157" y="1029"/>
                  <a:pt x="89" y="979"/>
                  <a:pt x="58" y="916"/>
                </a:cubicBezTo>
                <a:cubicBezTo>
                  <a:pt x="26" y="852"/>
                  <a:pt x="13" y="774"/>
                  <a:pt x="14" y="698"/>
                </a:cubicBezTo>
                <a:cubicBezTo>
                  <a:pt x="14" y="621"/>
                  <a:pt x="38" y="529"/>
                  <a:pt x="62" y="458"/>
                </a:cubicBezTo>
                <a:cubicBezTo>
                  <a:pt x="85" y="386"/>
                  <a:pt x="118" y="321"/>
                  <a:pt x="158" y="266"/>
                </a:cubicBezTo>
                <a:cubicBezTo>
                  <a:pt x="197" y="210"/>
                  <a:pt x="237" y="155"/>
                  <a:pt x="302" y="122"/>
                </a:cubicBezTo>
                <a:cubicBezTo>
                  <a:pt x="366" y="88"/>
                  <a:pt x="455" y="71"/>
                  <a:pt x="543" y="63"/>
                </a:cubicBezTo>
                <a:cubicBezTo>
                  <a:pt x="631" y="55"/>
                  <a:pt x="750" y="48"/>
                  <a:pt x="830" y="74"/>
                </a:cubicBezTo>
                <a:cubicBezTo>
                  <a:pt x="909" y="99"/>
                  <a:pt x="974" y="162"/>
                  <a:pt x="1022" y="218"/>
                </a:cubicBezTo>
                <a:cubicBezTo>
                  <a:pt x="1070" y="274"/>
                  <a:pt x="1078" y="374"/>
                  <a:pt x="1118" y="410"/>
                </a:cubicBezTo>
                <a:cubicBezTo>
                  <a:pt x="1157" y="445"/>
                  <a:pt x="1211" y="443"/>
                  <a:pt x="1258" y="432"/>
                </a:cubicBezTo>
                <a:cubicBezTo>
                  <a:pt x="1304" y="420"/>
                  <a:pt x="1350" y="376"/>
                  <a:pt x="1397" y="340"/>
                </a:cubicBezTo>
                <a:cubicBezTo>
                  <a:pt x="1443" y="304"/>
                  <a:pt x="1479" y="223"/>
                  <a:pt x="1535" y="216"/>
                </a:cubicBezTo>
                <a:cubicBezTo>
                  <a:pt x="1590" y="208"/>
                  <a:pt x="1672" y="281"/>
                  <a:pt x="1728" y="293"/>
                </a:cubicBezTo>
                <a:cubicBezTo>
                  <a:pt x="1783" y="304"/>
                  <a:pt x="1813" y="314"/>
                  <a:pt x="1866" y="286"/>
                </a:cubicBezTo>
                <a:cubicBezTo>
                  <a:pt x="1918" y="257"/>
                  <a:pt x="1971" y="162"/>
                  <a:pt x="2043" y="124"/>
                </a:cubicBezTo>
                <a:cubicBezTo>
                  <a:pt x="2114" y="85"/>
                  <a:pt x="2243" y="63"/>
                  <a:pt x="2297" y="55"/>
                </a:cubicBezTo>
                <a:close/>
              </a:path>
            </a:pathLst>
          </a:custGeom>
          <a:solidFill>
            <a:srgbClr val="ffea18"/>
          </a:solidFill>
          <a:ln w="19080">
            <a:solidFill>
              <a:srgbClr val="3d38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2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578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5783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578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DEC2-FA8E-4197-9A3B-195AD3D85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Part 3: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Blood Sp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124080" y="3352680"/>
            <a:ext cx="2959200" cy="197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C5B42-D6FB-48E3-A77D-06BC9D9652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st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stains caused by contact between a wet blood-bearing surface and a second surface which may or may not have blood o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f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image is recognizable and may be identifiable with a particular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i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t blood is transferred to a surface which did not have blood on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on-blood bearing object moves through a wet bloodstain, altering the appearance of the original st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CC1FE-D866-4CC4-85A8-8764601882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ion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s to the direction a drop of blood traveled in space from its point of orig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inal 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est speed to which a free falling drop of blood can accelerate in air. It is dependent upon the acceleration of gravity and the friction of the air against the bl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25.1 feet/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than 25 feet per second, usually 100 feet per second; gives a fine mist appea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to 25 feet per 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feet per second or 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27EBF-CB1A-4A1B-9EE5-277638D304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shape of a blood dro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falls straight down at a 90 degree 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lipt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droplets elongate as the angle decreases from 90 to 0 degrees; the angle can be determined by the following formu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441972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7920" y="4495680"/>
          <a:ext cx="6248160" cy="10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495680"/>
                    <a:ext cx="624816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A11A7-6F11-4837-A05D-E5993CD2F6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acute the angle of impact, the more elongated the st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 degree angles are perfectly round drops with 80 degree angles taking on a more elliptical sha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about 30 degrees the stain will begin to produce a ta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acute the angle, the easier it is to determine the direction of tra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 rot="11400">
            <a:off x="6095880" y="1218960"/>
            <a:ext cx="1905120" cy="1269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1828800" cy="274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A9522-2FC5-4DF5-9D7F-27FDC141C1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Effects of the Angle of Impact on Blood D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52480" y="4524120"/>
            <a:ext cx="64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drop on the left fell 42 inches at an angle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60-degree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on to hard smooth cardboard, while the drop on the right fell the same 42 inches and on to the same surface, but at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10-degree angl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514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60 degree 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2514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0 degree 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C3CF5-06A3-4F54-BF3F-2DE2A5201D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arder and less porous the surface, the less the blood drop will break ap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fter and more porous the surface, the more a blood drop will break ap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inted end of the blood stain faces the direction of tra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486400" y="1981080"/>
            <a:ext cx="2535120" cy="3429000"/>
            <a:chOff x="5486400" y="1981080"/>
            <a:chExt cx="2535120" cy="342900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5486400" y="1981080"/>
              <a:ext cx="25351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 txBox="1"/>
            <p:nvPr/>
          </p:nvSpPr>
          <p:spPr>
            <a:xfrm>
              <a:off x="5486400" y="1981080"/>
              <a:ext cx="2535120" cy="3429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0000"/>
                </a:buClr>
                <a:buFont typeface="Wingdings" charset="2"/>
                <a:buChar char="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6CF14-00DC-4E48-9D8C-545C030F88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ea of Intersec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d Converg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05320" y="2133720"/>
            <a:ext cx="4952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ocation of the blood source can be determined by drawing lines from the various blood droplets to the point where they intersec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rea of convergence is the point of origin; the spot where the “blow” occurred. It may be established at the scene with measurement of angles by use of string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2554200" cy="3581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09680" y="4419720"/>
            <a:ext cx="53352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F59C0-1BDB-484F-AA56-7BDB2C3BE8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Spatter Evid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ls with the physical properties of blood and the patterns made under different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, as a fluid, follows the laws of physic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893880"/>
            <a:ext cx="7239240" cy="32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CFF2D-8B61-49B5-8E98-8FBC29B74968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Droplet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ood droplet will remain spherical in space until it collides with a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 blood droplet impacts a surface, a bloodstain is for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49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roplet falling from the same height, hitting the same surface at the same angle, will produce a stain with the same basic sha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618C3-73CD-4089-ADE1-0302623F3B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 Droplet Vol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roplet contains approximately 0.05 cc of f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t the same for all blood droplets, but is generally from 0.03 cc to 0.15 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irectly dependent upon the surface or orifice from which it orig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act area is called the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1B8FA-BBEA-4D0A-87BF-79BBADDDA3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ditions Affec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Shape of Blood Drop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of the dro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 of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at which the blood droplet left its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 of the target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clean glass or pla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let will have smooth outside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 rough surf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produce scalloping on the ed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67B10-39CB-43C7-8D73-EA1494D006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Spatter example 2"/>
          <p:cNvPicPr/>
          <p:nvPr/>
        </p:nvPicPr>
        <p:blipFill>
          <a:blip r:embed="rId1"/>
          <a:stretch/>
        </p:blipFill>
        <p:spPr>
          <a:xfrm>
            <a:off x="1981080" y="1981080"/>
            <a:ext cx="1524240" cy="2210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Spatter example 2b"/>
          <p:cNvPicPr/>
          <p:nvPr/>
        </p:nvPicPr>
        <p:blipFill>
          <a:blip r:embed="rId2"/>
          <a:stretch/>
        </p:blipFill>
        <p:spPr>
          <a:xfrm>
            <a:off x="5791320" y="1981080"/>
            <a:ext cx="1481040" cy="2210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52480" y="533412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457164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blood drop at the left struck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plastic wall til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falling again from 42 inches. On the right, the drop fell from the same distance on to a piece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heavy, unusual textured wallpap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6858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Effects of Surface Texture on Blood D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09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lastic wall t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2209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extured wall pa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71D7F-C26B-43BD-B69B-266906F9FD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 Answered b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Spatter Interpre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istance between the target surface and the origin of bl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int(s) of origin of the bl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ement and direction of a person or an obj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mber of blows, shots, etc. causing the bloodshed and/or the dispersal of bloo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B0E2A-06C5-43B3-9499-8EA25A55A2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 Answered b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Spatter Interpre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 and direction of impact that produced the blood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sition of the victim and/or object during blood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ement of the victim and/or object after blood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8190D-7980-4D84-B05F-3787A9006F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le of imp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le at which blood strikes a target su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odstain trans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bloody object comes into contact with a surface and leaves a patterned blood image on the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pa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that is directed back toward the source of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t-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that is thrown from an object in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endall/Hunt Publishing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43FD3-E484-45B0-ABE0-8EB4752F55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22:21:34Z</dcterms:created>
  <dc:creator>Barb Weekley</dc:creator>
  <dc:description/>
  <dc:language>en-US</dc:language>
  <cp:lastModifiedBy>Preferred Customer</cp:lastModifiedBy>
  <dcterms:modified xsi:type="dcterms:W3CDTF">2009-02-18T10:22:41Z</dcterms:modified>
  <cp:revision>170</cp:revision>
  <dc:subject/>
  <dc:title>FORENSIC SCIENCE Serology</dc:title>
</cp:coreProperties>
</file>